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17DD-9610-473E-9BBC-11C746BC9E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204A-A3A3-4AC1-846E-D55C6E3E8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881C-C359-4208-A2E1-EBE65BD1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941F-E717-4732-B41C-E6F092AB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560F-C0A5-439E-AB98-6672DCB9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2B81-6678-4634-A608-00BACA17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32EF-3E0D-48A4-BFFE-EC93939F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644E-0A7E-4BDE-88F5-8ED844AB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BABF-A9DB-49F7-A337-9729F4BF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5939-5C2F-45F1-9F43-7E46E12E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D4CE-A869-42E7-8336-5B631642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214D-F255-4925-B145-18B1196C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DAE2-17A2-466B-9268-CBB3CED8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E9BB-524F-4AAF-B021-D34C40BE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4C70-FA3D-4FF4-9B4B-57849E6E9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63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OKOK POKOK IDE DISKUSI KELOMPOK SEKITAR PROKLAMASI KEMERDEKA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960" y="8380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500" spc="-1" strike="noStrike">
                <a:solidFill>
                  <a:srgbClr val="000000"/>
                </a:solidFill>
                <a:latin typeface="Calibri"/>
              </a:rPr>
              <a:t>Jelaskan munculnya Istilah Indonesi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raikan Peran Chuo Sangi In terhadap kesiapan kemerdekaan Indonesi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raikan peran BPUPKI terhadap kesiapan kemerdekaan Indonesi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erumusan Dasar Negara dan lahirnya Pancasil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Tentang lahirnya dasar Negara Pancasil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engapa tanggal 1 Juni sering disebut lahirnya Pancasila ?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enarkah Pancasila yang sekarang ini lahir pada tanggal 1 Juni ?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ntuk menuntaskan rumusan dasar negara Pancasila dibentuklah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Panitia Sembila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. Salah satu hasil rumusan dari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Panitia Sembila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, pada sila pertama berbunyi ”Ketuhanan, dengan kewajiban menjalankan syariat Islam bagi pemeluk-pemeluknya”. Setelah melalui perdebatan yang panjang dan alot, demi persatuan dan kesatuan bangsa, akhirnya kelompok umat Islam mengalah menghilangkan kata kata “dengan kewajiban menjalankan syariat Islam bagi pemeluk-pemeluknya”, sehingga rumusan kalimat sila pertama menjadi “Ketuhanan Yang Maha Esa”. Nah, nilai-nilai apa yang dapat saudara ambil dari rangkaian peristiwa tersebut, dan bagaimana pula saudara mengimplementasikan nilai-nilai tersebut dalam kehidupan berbangsa dan bernegara termasuk dalam kaitan dengan pekerjaan  saudara 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raikan bagaimana peran PPKI Menuju Kemerdekaan Indonesi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raikan </a:t>
            </a:r>
            <a:r>
              <a:rPr b="1" lang="id-ID" sz="1500" spc="-1" strike="noStrike">
                <a:solidFill>
                  <a:srgbClr val="000000"/>
                </a:solidFill>
                <a:latin typeface="Calibri"/>
              </a:rPr>
              <a:t>Peristiwa Peristiwa Penting Sekitar Proklamasi Kemerdekaan Indonesi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eristiwa rengasdengklok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erumusan teks proklamasi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enyebaran berita proklamasi kemerdekaa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anggapan masyarakat terhadap proklamasi kemerdekaa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saat setelah proklamasi kemerdekaan, tepatnya tanggal </a:t>
            </a:r>
            <a:r>
              <a:rPr b="0" lang="id-ID" sz="1300" spc="-1" strike="noStrike">
                <a:solidFill>
                  <a:srgbClr val="000000"/>
                </a:solidFill>
                <a:latin typeface="Calibri"/>
              </a:rPr>
              <a:t>tanggal 5 September 1945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id-ID" sz="1300" spc="-1" strike="noStrike">
                <a:solidFill>
                  <a:srgbClr val="000000"/>
                </a:solidFill>
                <a:latin typeface="Calibri"/>
              </a:rPr>
              <a:t>Sri Sultan Hamengku Buwono IX dan Sri Paku Alam V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id-ID" sz="1300" spc="-1" strike="noStrike">
                <a:solidFill>
                  <a:srgbClr val="000000"/>
                </a:solidFill>
                <a:latin typeface="Calibri"/>
              </a:rPr>
              <a:t>I mengeluarkan amanat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. Amanat inilah yang menjadikan Yogyakarta menjadi daerah istimewa.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pa isi amanat yang paling pokok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yang menjadikan masyarakat Yogyakarta menuntut pemerintah Pusat menetapkan Sri Sultan sebagai Gubernur dan Sri Paku Alam sebagai wakil Gubernur DIY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5:12:52Z</dcterms:created>
  <dc:creator>Valued Acer Customer</dc:creator>
  <dc:description/>
  <dc:language>en-US</dc:language>
  <cp:lastModifiedBy>Valued Acer Customer</cp:lastModifiedBy>
  <dcterms:modified xsi:type="dcterms:W3CDTF">2013-10-23T15:16:33Z</dcterms:modified>
  <cp:revision>2</cp:revision>
  <dc:subject/>
  <dc:title>POKOK POKOK IDE DISKUSI KELOMPOK SEKITAR PROKLAMASI KEMERDEKAAN</dc:title>
</cp:coreProperties>
</file>